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BB60-E3C6-4B6B-B0A4-77A969151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E808-C516-4EB2-B8BB-44366B6A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2FDE-00EB-4983-AF2D-5A5A2EBE9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3E9E-2745-40AB-B8E3-28AF0E88B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EE82-22E4-4060-A616-7CFEAEEFE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2897-778A-499D-93AC-54D6CB43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0C15-FE58-447D-B036-689D3385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4F6E-F189-4B20-A521-3B18F686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369DB-626E-4951-8595-37F68E19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40DA-A8B6-4A15-93B4-7C67096D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5D7B-4BBA-4913-9EFC-AF4FD7C4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8A76-3646-4668-8AE5-300B3A15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2150-C360-4D12-82F4-BB12653D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6EDD-073B-4FC4-B8E8-62A5D115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8C54-20F4-4050-9FAB-421AD864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E5021-CBE1-46B0-95AF-D98140C1B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6975-A57C-4A31-B4BB-557C1C304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9C3EF3-49FE-46A8-ABE1-45C477026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9A4473-2B10-4CE4-A857-47B9E9C8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E28F9D-3B0A-4FEB-9C04-656CC2A1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C32A8C-1FB2-413A-8FFF-7D75E1FA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8D9BB6-FB00-4352-87E8-CEF80AFD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3D4A-DCD1-427A-9707-1011EDF8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A33533-42EC-487C-AD1D-24ACCC15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1DA29C-3E74-45C6-85A8-F1302FD8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1762FC-FF70-460B-8C4B-1B01CAC3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E0F9A1-48FF-4453-A36F-D14F010A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858DB6-3BF6-419C-82B4-4458439C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C95281-3D8B-4327-83EA-088ED3012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334C80-DE39-4BDD-88EE-5BCC65A54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E1B50-776B-4C51-9109-3EF6839EC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54E20-E71B-4145-BC32-493804AF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A5350-AFF7-486D-85E0-593400BA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6946-4396-4AEE-BA63-10A8FEBD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8914D-478B-4B4A-81FF-5EB27F25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BBB1B-06BC-40A1-B3D4-CB93F7E3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B1E53-0DD0-445A-AF4F-69700BC9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DE882-28BC-4AD9-8B54-D23AD4F2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85CD0-5728-43A3-B9E3-79876038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3580C-7294-49D8-AE17-0E4EF9CC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29B92-9B0B-4598-A1F1-287F6A3B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F7432-C98A-4A75-849B-7667FB266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38D43-C6EB-4FA0-BEE1-D84571FDE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0420-FB22-4CE0-8E7C-E077D841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7919-6306-47A7-9C33-7498AA08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CF34-364E-4276-AAB3-2F1129BC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5F03-1025-49A6-8B5E-911AEBC0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96AB-F20E-4CB3-9F89-F978F93C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64FA-6BA2-4FB1-81E9-AE4342DF214A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4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5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6137-E07F-4CA7-A489-C1C6F1423038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FFDA-C3B3-4FA1-91AA-268044D227CF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1BD5-CCEA-4B9F-905D-82F36CA3F7ED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ewton.ac.uk/newtlife.html" TargetMode="External"/><Relationship Id="rId2" Type="http://schemas.openxmlformats.org/officeDocument/2006/relationships/hyperlink" Target="http://galileoandeinstein.physics.virginia.edu/lectures/newton.html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Isaac Newton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Dante Robinson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Early Lif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Born January 4th, 1643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Lincolnshire, Englan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Born 3 months after death of his father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ttended The King’s Schoo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Educatio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Removed from school in 1659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Returned to finish his educaito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Became Top ranked studen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ttended Trinity College in Cambrig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Influenc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ewton’s school focused on teachings of Aristotl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Personally interested in Descartes, Galileo, Copernicus, and Kepler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Early Work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n 1665, Newton discovered the Binomial theory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Describes the algebraic expansion of powers of a binomial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Developed infinitesimal calculu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Did background work in calculus, optics, and laws of gravitatio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alculus Work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Responsible for furthering the world of mathematics and calculus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Newton’s identities, Newton’s method, etc.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He classified cubic plane curves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Approximated partial sums of the harmonic series by logarithms.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Awarded for his work and elected Lucasian Professor of Mathematics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3 Laws of Motio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1. An object in motion will stay in motion unless acted upon by an outside forc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2. F=MA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Every action has an equal and opposite reactio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Other Studi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echanic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Gravitatio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Affects on orbit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Designed Newtonian telescop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eory of Gravitatio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Sourc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68200"/>
                </a:solidFill>
                <a:uFillTx/>
                <a:latin typeface="Times New Roman"/>
                <a:hlinkClick r:id="rId1"/>
              </a:rPr>
              <a:t>http://www.newton.ac.uk/newtlife.htm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68200"/>
                </a:solidFill>
                <a:uFillTx/>
                <a:latin typeface="Times New Roman"/>
                <a:hlinkClick r:id="rId2"/>
              </a:rPr>
              <a:t>http://galileoandeinstein.physics.virginia.edu/lectures/newton.htm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ff"/>
                </a:solidFill>
                <a:uFillTx/>
                <a:latin typeface="Times New Roman"/>
              </a:rPr>
              <a:t>http://www.lucidcafe.com/library/95dec/newton.htm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9:30:30Z</dcterms:created>
  <dc:creator>PA Department of Education</dc:creator>
  <dc:description/>
  <dc:language>en-US</dc:language>
  <cp:lastModifiedBy>Dant</cp:lastModifiedBy>
  <dcterms:modified xsi:type="dcterms:W3CDTF">2010-01-28T20:48:32Z</dcterms:modified>
  <cp:revision>3</cp:revision>
  <dc:subject/>
  <dc:title>Isaac Newton</dc:title>
</cp:coreProperties>
</file>